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8549-C3E3-4C9F-BB5A-9787D64DD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D9D8-688D-4AAB-B186-C459562C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8477-70D9-430F-A387-D9133AE0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3BE8-5F73-4F33-830B-74E4CD300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1BCA-30AE-45A1-8702-D294359CB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26AF-CF31-43F9-8F05-5217BE9D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56DD-B6FE-48ED-8A39-0202E5C7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5830-1A3F-4669-BBC1-D2B7489F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183E-F821-45D2-8446-3E1B5911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A6E3-EDDB-45D1-B7B0-1A22B0C9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AAD1-2DBA-45FB-9F8A-A3A728C6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D1AA-9A78-4DC5-B132-AF09697E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067B-23FF-466B-90DE-8CB72E95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7273-E490-4C42-B8FE-A5E27587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EE91-8D7E-449F-9314-04CFC82E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9445-9747-4EB9-A0D7-E17A76395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F04E-7FED-4CBB-A747-8C9229A8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83BB-4EBB-4786-A1FA-90E8BAD2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6DB3-F9BC-4973-89A0-72FE3284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2B32-0A81-4057-AFF9-03DCB51E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15F4-B6C5-4629-A38B-F382F640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1CC5-E330-4804-95B9-41AA9D14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C6EB-3D5A-424D-874E-302F206C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B121-2FB3-4164-AE00-1DCEC816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B666-5807-4191-AAED-DCA6066192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2A79-187E-41BA-95AD-289BF0F7A0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2.3—Chemical Form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2760" y="5524560"/>
            <a:ext cx="82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be able to read the formulas for chemicals in the antacid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11320" y="3086280"/>
            <a:ext cx="3481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cium brom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11320" y="3086280"/>
            <a:ext cx="3481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cium brom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14280" y="3049560"/>
            <a:ext cx="16002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887480" y="268740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94920" y="2232000"/>
            <a:ext cx="113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71720" y="3697200"/>
            <a:ext cx="164484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594240" y="366408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4160" y="4019400"/>
            <a:ext cx="104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55760" y="182880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Ca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75120" y="4417920"/>
            <a:ext cx="18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Br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11320" y="3086280"/>
            <a:ext cx="3481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cium brom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14280" y="3049560"/>
            <a:ext cx="16002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887480" y="268740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94920" y="2232000"/>
            <a:ext cx="113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71720" y="3697200"/>
            <a:ext cx="164484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594240" y="366408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4160" y="4019400"/>
            <a:ext cx="104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55760" y="182880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Ca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75120" y="4417920"/>
            <a:ext cx="18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Br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45000" y="5386320"/>
            <a:ext cx="1765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aBr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14640" y="26668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81800" y="321480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2 + -1 = 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45600" y="405288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24480" y="359568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5638680"/>
            <a:ext cx="374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bscript “2” is used to show that 2 anions are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38320" y="4586400"/>
            <a:ext cx="175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2 + -1 + -1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68280" y="2149560"/>
            <a:ext cx="2536920" cy="188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following chemical form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312000" y="1996920"/>
            <a:ext cx="2792880" cy="31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esium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Potassium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alcium sulf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Lithium nit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32760" y="1996920"/>
            <a:ext cx="1911240" cy="32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Cs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Li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8280" y="2149560"/>
            <a:ext cx="2536920" cy="188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following chemical form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12000" y="1996920"/>
            <a:ext cx="2792880" cy="31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esium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Potassium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alcium sulf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Lithium nit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yatomic Ionic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1539000"/>
            <a:ext cx="741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767ff"/>
                </a:solidFill>
                <a:latin typeface="Arial"/>
              </a:rPr>
              <a:t>Polyatomic Ion</a:t>
            </a: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re than one atom that together have a ch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5119560"/>
            <a:ext cx="966600" cy="90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8ec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5348160"/>
            <a:ext cx="1219320" cy="533520"/>
          </a:xfrm>
          <a:prstGeom prst="rightArrow">
            <a:avLst>
              <a:gd name="adj1" fmla="val 50000"/>
              <a:gd name="adj2" fmla="val 57136"/>
            </a:avLst>
          </a:prstGeom>
          <a:gradFill rotWithShape="0">
            <a:gsLst>
              <a:gs pos="0">
                <a:srgbClr val="479b8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5424480"/>
            <a:ext cx="457200" cy="45720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479b8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2894400"/>
            <a:ext cx="741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767ff"/>
                </a:solidFill>
                <a:latin typeface="Arial"/>
              </a:rPr>
              <a:t>Polyatomic Ionic Compound</a:t>
            </a: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pound containing at least one polyatomic 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049560" y="5105520"/>
            <a:ext cx="1400040" cy="991440"/>
            <a:chOff x="3049560" y="5105520"/>
            <a:chExt cx="1400040" cy="991440"/>
          </a:xfrm>
        </p:grpSpPr>
        <p:grpSp>
          <p:nvGrpSpPr>
            <p:cNvPr id="188" name=""/>
            <p:cNvGrpSpPr/>
            <p:nvPr/>
          </p:nvGrpSpPr>
          <p:grpSpPr>
            <a:xfrm>
              <a:off x="3200400" y="5105520"/>
              <a:ext cx="1067040" cy="899640"/>
              <a:chOff x="3200400" y="5105520"/>
              <a:chExt cx="1067040" cy="899640"/>
            </a:xfrm>
          </p:grpSpPr>
          <p:sp>
            <p:nvSpPr>
              <p:cNvPr id="189" name=""/>
              <p:cNvSpPr/>
              <p:nvPr/>
            </p:nvSpPr>
            <p:spPr>
              <a:xfrm>
                <a:off x="3810240" y="5410080"/>
                <a:ext cx="457200" cy="442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9d8ec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200400" y="5410080"/>
                <a:ext cx="457200" cy="442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9d8ec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505320" y="5105520"/>
                <a:ext cx="457200" cy="442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9d8ec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505320" y="5562360"/>
                <a:ext cx="457200" cy="442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9d8ec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3049560" y="5180040"/>
              <a:ext cx="1400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lyatom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172200" y="5181480"/>
            <a:ext cx="2603880" cy="917640"/>
            <a:chOff x="6172200" y="5181480"/>
            <a:chExt cx="2603880" cy="917640"/>
          </a:xfrm>
        </p:grpSpPr>
        <p:grpSp>
          <p:nvGrpSpPr>
            <p:cNvPr id="195" name=""/>
            <p:cNvGrpSpPr/>
            <p:nvPr/>
          </p:nvGrpSpPr>
          <p:grpSpPr>
            <a:xfrm>
              <a:off x="6400800" y="5181480"/>
              <a:ext cx="1980720" cy="900360"/>
              <a:chOff x="6400800" y="5181480"/>
              <a:chExt cx="1980720" cy="90036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7315200" y="5181480"/>
                <a:ext cx="1066320" cy="900360"/>
                <a:chOff x="7315200" y="5181480"/>
                <a:chExt cx="1066320" cy="90036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7924680" y="5486400"/>
                  <a:ext cx="456840" cy="44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a2aeba"/>
                    </a:gs>
                  </a:gsLst>
                  <a:path path="rect">
                    <a:fillToRect l="50000" t="50000" r="50000" b="50000"/>
                  </a:path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315200" y="5486400"/>
                  <a:ext cx="456840" cy="44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a2aeba"/>
                    </a:gs>
                  </a:gsLst>
                  <a:path path="rect">
                    <a:fillToRect l="50000" t="50000" r="50000" b="50000"/>
                  </a:path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619760" y="5181480"/>
                  <a:ext cx="456840" cy="44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a2aeba"/>
                    </a:gs>
                  </a:gsLst>
                  <a:path path="rect">
                    <a:fillToRect l="50000" t="50000" r="50000" b="50000"/>
                  </a:path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619760" y="5638680"/>
                  <a:ext cx="456840" cy="44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a2aeba"/>
                    </a:gs>
                  </a:gsLst>
                  <a:path path="rect">
                    <a:fillToRect l="50000" t="50000" r="50000" b="50000"/>
                  </a:path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"/>
              <p:cNvSpPr/>
              <p:nvPr/>
            </p:nvSpPr>
            <p:spPr>
              <a:xfrm>
                <a:off x="6400800" y="5181480"/>
                <a:ext cx="966600" cy="900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2aeba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6172200" y="5273640"/>
              <a:ext cx="260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olyatomic Io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mpou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1514520"/>
            <a:ext cx="833292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33ff"/>
                </a:solidFill>
                <a:latin typeface="Arial"/>
              </a:rPr>
              <a:t>Do not end with “-ide” (except hydroxide &amp; cyanid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33ff"/>
                </a:solidFill>
                <a:latin typeface="Arial"/>
              </a:rPr>
              <a:t>Do not use covalent prefi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write these formul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33ff"/>
                </a:solidFill>
                <a:latin typeface="Arial"/>
              </a:rPr>
              <a:t>Write the symbol &amp; charge of the cation &amp; an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33ff"/>
                </a:solidFill>
                <a:latin typeface="Arial"/>
              </a:rPr>
              <a:t>Add additional cations or anions to have a neutral compou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33ff"/>
                </a:solidFill>
                <a:latin typeface="Arial"/>
              </a:rPr>
              <a:t>Use subscripts to show the number of 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When using subscripts with a polyatomic ion, you must put the polyatomic ion in parenthesi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ying &amp; Naming Polyatomic Ion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09880" y="3086280"/>
            <a:ext cx="3729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dium carbo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09880" y="3086280"/>
            <a:ext cx="3729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dium carbo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14280" y="3049560"/>
            <a:ext cx="16002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887480" y="268740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94920" y="2232000"/>
            <a:ext cx="113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871720" y="3697200"/>
            <a:ext cx="164484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594240" y="366408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66160" y="4019400"/>
            <a:ext cx="1811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Polyato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55760" y="182880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Na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75120" y="4738680"/>
            <a:ext cx="187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1600200"/>
            <a:ext cx="833292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Appendix (Page A-2) has lists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Common polyatomic 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Multivalent meta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Covalent prefix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your periodic table to determine the charges of common elements when they form 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inders from Section 2.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09880" y="3086280"/>
            <a:ext cx="3729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dium carbo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14280" y="3049560"/>
            <a:ext cx="16002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887480" y="268740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94920" y="2232000"/>
            <a:ext cx="113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71720" y="3697200"/>
            <a:ext cx="164484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594240" y="366408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66160" y="4019400"/>
            <a:ext cx="1811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Polyato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55760" y="182880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Na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75120" y="4738680"/>
            <a:ext cx="187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859760" y="5386320"/>
            <a:ext cx="22669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92680" y="2666880"/>
            <a:ext cx="1127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582160" y="32148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 + -2 =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42720" y="4052880"/>
            <a:ext cx="1452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24480" y="359568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29200" y="5638680"/>
            <a:ext cx="374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bscript “2” is used to show that 2 cations are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4586400"/>
            <a:ext cx="16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 + 1 + -2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10240" y="3086280"/>
            <a:ext cx="3774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gnesium 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10240" y="3086280"/>
            <a:ext cx="3774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gnesium 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14280" y="3049560"/>
            <a:ext cx="21942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235240" y="268740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42680" y="2232000"/>
            <a:ext cx="113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57520" y="3697200"/>
            <a:ext cx="127944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280040" y="366408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351960" y="4019400"/>
            <a:ext cx="1811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Polyato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03520" y="1828800"/>
            <a:ext cx="18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Mg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760920" y="4738680"/>
            <a:ext cx="187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NO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10240" y="3086280"/>
            <a:ext cx="3774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gnesium 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14280" y="3049560"/>
            <a:ext cx="21942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235240" y="268740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42680" y="2232000"/>
            <a:ext cx="113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57520" y="3697200"/>
            <a:ext cx="127944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280040" y="366408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351960" y="4019400"/>
            <a:ext cx="1811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Polyato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703520" y="1828800"/>
            <a:ext cx="18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Mg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60920" y="4738680"/>
            <a:ext cx="187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NO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60840" y="5386320"/>
            <a:ext cx="27396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g(N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29200" y="6019920"/>
            <a:ext cx="374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parenthesis when adding subscripts to polyatomic 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92680" y="2209680"/>
            <a:ext cx="1546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581800" y="275760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2 + -1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748480" y="3595680"/>
            <a:ext cx="1605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24480" y="313848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29200" y="5181480"/>
            <a:ext cx="374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bscript “2” is used to show that 2 anions are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38320" y="4129200"/>
            <a:ext cx="175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2 + -1 + -1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8280" y="2149560"/>
            <a:ext cx="2536920" cy="188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following chemical form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313080" y="1996920"/>
            <a:ext cx="3109680" cy="31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Sodium ni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alcium chl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Potassium sulf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alc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137360" y="1996920"/>
            <a:ext cx="1911240" cy="33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NaNO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Ca(ClO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Ca(OH)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8280" y="2149560"/>
            <a:ext cx="2536920" cy="188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following chemical form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313080" y="1996920"/>
            <a:ext cx="3109680" cy="31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Sodium ni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alcium chl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Potassium sulf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alc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valent Me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1851480"/>
            <a:ext cx="741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767ff"/>
                </a:solidFill>
                <a:latin typeface="Arial"/>
              </a:rPr>
              <a:t>Multivalent Metal</a:t>
            </a: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al that has more than one possibility for cationic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57200" y="1514520"/>
            <a:ext cx="8332920" cy="31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Will have roman nume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rite these formul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Same as binary ionic or polyatomic io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The roman numerals tell the charge of the metal (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ying &amp; Naming Multivalent Me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09880" y="3086280"/>
            <a:ext cx="2849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on (III) 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Ionic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09880" y="3086280"/>
            <a:ext cx="2849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on (III) 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214280" y="3049560"/>
            <a:ext cx="13716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887480" y="268740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294920" y="2232000"/>
            <a:ext cx="113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19520" y="3697200"/>
            <a:ext cx="109692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368520" y="366408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818800" y="4019400"/>
            <a:ext cx="104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355760" y="182880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Fe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49400" y="441792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O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09880" y="3086280"/>
            <a:ext cx="2849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on (III) 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14280" y="3049560"/>
            <a:ext cx="13716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1887480" y="268740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294920" y="2232000"/>
            <a:ext cx="113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19520" y="3697200"/>
            <a:ext cx="109692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3368520" y="366408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18800" y="4019400"/>
            <a:ext cx="104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55760" y="182880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Fe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849400" y="441792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O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60840" y="5386320"/>
            <a:ext cx="17582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692680" y="220968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82160" y="2757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3 + -2 =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56040" y="359568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324480" y="313848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029200" y="5181480"/>
            <a:ext cx="374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bscript “2” and “3” are used to show the numbers of atoms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637240" y="4129200"/>
            <a:ext cx="26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3 + 3 + -2 + -2 + -2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09160" y="3086280"/>
            <a:ext cx="3573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per (II) 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09160" y="3086280"/>
            <a:ext cx="3573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per (II) 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14280" y="3049560"/>
            <a:ext cx="201168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2235240" y="268740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42680" y="2232000"/>
            <a:ext cx="113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352680" y="3697200"/>
            <a:ext cx="12798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4075200" y="366408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47480" y="4019400"/>
            <a:ext cx="1811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Polyato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03520" y="1828800"/>
            <a:ext cx="18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Cu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56080" y="4738680"/>
            <a:ext cx="187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NO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000"/>
                            </p:stCondLst>
                            <p:childTnLst>
                              <p:par>
                                <p:cTn id="75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09160" y="3086280"/>
            <a:ext cx="3573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per (II) 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14280" y="3049560"/>
            <a:ext cx="201168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235240" y="268740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642680" y="2232000"/>
            <a:ext cx="113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52680" y="3697200"/>
            <a:ext cx="12798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4075200" y="366408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147480" y="4019400"/>
            <a:ext cx="1811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Polyato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703520" y="1828800"/>
            <a:ext cx="18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Cu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556080" y="4738680"/>
            <a:ext cx="187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NO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60120" y="5386320"/>
            <a:ext cx="2672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u(N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692680" y="2209680"/>
            <a:ext cx="1546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581800" y="275760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2 + -1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715000" y="3595680"/>
            <a:ext cx="1604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324480" y="313848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5181480"/>
            <a:ext cx="374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parenthesis when adding subscripts to a polyatomic 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38320" y="4129200"/>
            <a:ext cx="175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2 + -1 + -1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68280" y="2149560"/>
            <a:ext cx="2536920" cy="188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following chemical form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312000" y="1996920"/>
            <a:ext cx="3289680" cy="31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Iron (II) ni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opper (I)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Lead (IV)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Tin (II)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0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137360" y="1996920"/>
            <a:ext cx="1911240" cy="32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Fe(NO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Cu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Pb(OH)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S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68280" y="2149560"/>
            <a:ext cx="2536920" cy="188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following chemical form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312000" y="1996920"/>
            <a:ext cx="3289680" cy="31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Iron (II) ni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opper (I)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Lead (IV)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Tin (II)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7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Covalent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143000" y="2635920"/>
            <a:ext cx="741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767ff"/>
                </a:solidFill>
                <a:latin typeface="Arial"/>
              </a:rPr>
              <a:t>Binary Covalent Compound</a:t>
            </a:r>
            <a:r>
              <a:rPr b="1" lang="en-US" sz="3200" spc="-1" strike="noStrike">
                <a:solidFill>
                  <a:srgbClr val="d9d8e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pound made from two non-metals that shar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219320" y="4572000"/>
            <a:ext cx="966600" cy="900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8ec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895480" y="4572000"/>
            <a:ext cx="966960" cy="900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8ec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5486400" y="4572000"/>
            <a:ext cx="3124080" cy="900000"/>
            <a:chOff x="5486400" y="4572000"/>
            <a:chExt cx="3124080" cy="900000"/>
          </a:xfrm>
        </p:grpSpPr>
        <p:grpSp>
          <p:nvGrpSpPr>
            <p:cNvPr id="347" name=""/>
            <p:cNvGrpSpPr/>
            <p:nvPr/>
          </p:nvGrpSpPr>
          <p:grpSpPr>
            <a:xfrm>
              <a:off x="5867280" y="4572000"/>
              <a:ext cx="1957320" cy="900000"/>
              <a:chOff x="5867280" y="4572000"/>
              <a:chExt cx="1957320" cy="900000"/>
            </a:xfrm>
          </p:grpSpPr>
          <p:sp>
            <p:nvSpPr>
              <p:cNvPr id="348" name=""/>
              <p:cNvSpPr/>
              <p:nvPr/>
            </p:nvSpPr>
            <p:spPr>
              <a:xfrm>
                <a:off x="5867280" y="4572000"/>
                <a:ext cx="966960" cy="90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858000" y="4572000"/>
                <a:ext cx="966600" cy="90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5486400" y="48006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valent compou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4114800" y="4800600"/>
            <a:ext cx="1219320" cy="533520"/>
          </a:xfrm>
          <a:prstGeom prst="rightArrow">
            <a:avLst>
              <a:gd name="adj1" fmla="val 50000"/>
              <a:gd name="adj2" fmla="val 57136"/>
            </a:avLst>
          </a:prstGeom>
          <a:gradFill rotWithShape="0">
            <a:gsLst>
              <a:gs pos="0">
                <a:srgbClr val="479b8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362320" y="4876920"/>
            <a:ext cx="457200" cy="45720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479b8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143000" y="1627920"/>
            <a:ext cx="741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767ff"/>
                </a:solidFill>
                <a:latin typeface="Arial"/>
              </a:rPr>
              <a:t>Covalent bond</a:t>
            </a:r>
            <a:r>
              <a:rPr b="1" lang="en-US" sz="3200" spc="-1" strike="noStrike">
                <a:solidFill>
                  <a:srgbClr val="d9d8e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oms shar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57200" y="1514520"/>
            <a:ext cx="833292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Use covalent prefix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rite these formul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Write the symbols of the first and second ele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Use the covalent prefixes (assume the first element is “1” if there’s no prefix) as the subscripts to show number of atom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ying &amp; Naming Binary Coval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6160" y="5691240"/>
            <a:ext cx="791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s do not form charges when bonding covalently…you DO NOT need to worry about charges with this typ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6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6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2842200"/>
            <a:ext cx="7410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767ff"/>
                </a:solidFill>
                <a:latin typeface="Arial"/>
              </a:rPr>
              <a:t>Binary Ionic Compound</a:t>
            </a: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pound containing two elements—one metal and one non-me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4943520"/>
            <a:ext cx="966600" cy="900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8ec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4943520"/>
            <a:ext cx="966960" cy="900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8ec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638680" y="4943520"/>
            <a:ext cx="3124440" cy="900000"/>
            <a:chOff x="5638680" y="4943520"/>
            <a:chExt cx="3124440" cy="900000"/>
          </a:xfrm>
        </p:grpSpPr>
        <p:grpSp>
          <p:nvGrpSpPr>
            <p:cNvPr id="105" name=""/>
            <p:cNvGrpSpPr/>
            <p:nvPr/>
          </p:nvGrpSpPr>
          <p:grpSpPr>
            <a:xfrm>
              <a:off x="5867280" y="4943520"/>
              <a:ext cx="1957320" cy="900000"/>
              <a:chOff x="5867280" y="4943520"/>
              <a:chExt cx="1957320" cy="900000"/>
            </a:xfrm>
          </p:grpSpPr>
          <p:sp>
            <p:nvSpPr>
              <p:cNvPr id="106" name=""/>
              <p:cNvSpPr/>
              <p:nvPr/>
            </p:nvSpPr>
            <p:spPr>
              <a:xfrm>
                <a:off x="5867280" y="4943520"/>
                <a:ext cx="966960" cy="90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858000" y="4943520"/>
                <a:ext cx="966600" cy="90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638680" y="51721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onic Compou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114800" y="5172120"/>
            <a:ext cx="1219320" cy="533520"/>
          </a:xfrm>
          <a:prstGeom prst="rightArrow">
            <a:avLst>
              <a:gd name="adj1" fmla="val 50000"/>
              <a:gd name="adj2" fmla="val 57136"/>
            </a:avLst>
          </a:prstGeom>
          <a:gradFill rotWithShape="0">
            <a:gsLst>
              <a:gs pos="0">
                <a:srgbClr val="479b8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5248440"/>
            <a:ext cx="457200" cy="45720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479b8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1589760"/>
            <a:ext cx="741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767ff"/>
                </a:solidFill>
                <a:latin typeface="Arial"/>
              </a:rPr>
              <a:t>Ionic bond</a:t>
            </a: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nd formed by attraction between + and - 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112400" y="3086280"/>
            <a:ext cx="7271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initrogen Tetraox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12400" y="3086280"/>
            <a:ext cx="7271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initrogen Tetraox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214280" y="3049560"/>
            <a:ext cx="338328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2768760" y="268740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46280" y="223200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79880" y="4038480"/>
            <a:ext cx="319896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6656400" y="402588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485760" y="429588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236680" y="182880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Di-”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046920" y="4662360"/>
            <a:ext cx="18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Tetra-”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20760" y="5315040"/>
            <a:ext cx="16516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0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500"/>
                            </p:stCondLst>
                            <p:childTnLst>
                              <p:par>
                                <p:cTn id="9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1000"/>
                            </p:stCondLst>
                            <p:childTnLst>
                              <p:par>
                                <p:cTn id="95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500"/>
                            </p:stCondLst>
                            <p:childTnLst>
                              <p:par>
                                <p:cTn id="9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1000"/>
                            </p:stCondLst>
                            <p:childTnLst>
                              <p:par>
                                <p:cTn id="97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112400" y="3086280"/>
            <a:ext cx="50238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ilicon diox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12400" y="3086280"/>
            <a:ext cx="50238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ilicon diox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214280" y="3049560"/>
            <a:ext cx="22860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311560" y="268740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055240" y="223200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733920" y="4038480"/>
            <a:ext cx="22860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4800600" y="402588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629960" y="429588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779480" y="160020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Mono-” is not written for the first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191120" y="4662360"/>
            <a:ext cx="18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Di-”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86200" y="5315040"/>
            <a:ext cx="15811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500"/>
                            </p:stCondLst>
                            <p:childTnLst>
                              <p:par>
                                <p:cTn id="10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UTION!!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772160" y="2216160"/>
            <a:ext cx="3592440" cy="511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961920" y="2216160"/>
            <a:ext cx="3592440" cy="511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961920" y="2873520"/>
            <a:ext cx="3592440" cy="788760"/>
          </a:xfrm>
          <a:prstGeom prst="roundRect">
            <a:avLst>
              <a:gd name="adj" fmla="val 16667"/>
            </a:avLst>
          </a:prstGeom>
          <a:solidFill>
            <a:srgbClr val="debdff"/>
          </a:solidFill>
          <a:ln w="9360">
            <a:solidFill>
              <a:srgbClr val="deb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s for “2” in covalent com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772160" y="2873520"/>
            <a:ext cx="3592440" cy="788760"/>
          </a:xfrm>
          <a:prstGeom prst="roundRect">
            <a:avLst>
              <a:gd name="adj" fmla="val 16667"/>
            </a:avLst>
          </a:prstGeom>
          <a:solidFill>
            <a:srgbClr val="debdff"/>
          </a:solidFill>
          <a:ln w="9360">
            <a:solidFill>
              <a:srgbClr val="deb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 there’s a hydrogen in the polyatomic a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83840" y="1587600"/>
            <a:ext cx="56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” and “bi” do not mean the same th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66960" y="3782880"/>
            <a:ext cx="3592440" cy="878040"/>
          </a:xfrm>
          <a:prstGeom prst="roundRect">
            <a:avLst>
              <a:gd name="adj" fmla="val 16667"/>
            </a:avLst>
          </a:prstGeom>
          <a:solidFill>
            <a:srgbClr val="debdff"/>
          </a:solidFill>
          <a:ln w="9360">
            <a:solidFill>
              <a:srgbClr val="deb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bon dioxide = CO</a:t>
            </a:r>
            <a:r>
              <a:rPr b="1" lang="en-US" sz="2000" spc="-1" strike="noStrike" baseline="-25000">
                <a:solidFill>
                  <a:srgbClr val="6767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776840" y="3782880"/>
            <a:ext cx="3592440" cy="878040"/>
          </a:xfrm>
          <a:prstGeom prst="roundRect">
            <a:avLst>
              <a:gd name="adj" fmla="val 16667"/>
            </a:avLst>
          </a:prstGeom>
          <a:solidFill>
            <a:srgbClr val="debdff"/>
          </a:solidFill>
          <a:ln w="9360">
            <a:solidFill>
              <a:srgbClr val="deb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dium biphosphate = N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6767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68280" y="2149560"/>
            <a:ext cx="2536920" cy="188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following chemical form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313080" y="1996920"/>
            <a:ext cx="4221000" cy="22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arbon mon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Nitrogen di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Diphosphorus penta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5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0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5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137360" y="1996920"/>
            <a:ext cx="19112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NO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68280" y="2149560"/>
            <a:ext cx="2536920" cy="188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following chemical form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313080" y="1996920"/>
            <a:ext cx="4221000" cy="22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arbon mon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Nitrogen di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Diphosphorus penta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2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7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2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omenclature Summa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15880" y="1889280"/>
            <a:ext cx="8289000" cy="4143600"/>
            <a:chOff x="515880" y="1889280"/>
            <a:chExt cx="8289000" cy="4143600"/>
          </a:xfrm>
        </p:grpSpPr>
        <p:cxnSp>
          <p:nvCxnSpPr>
            <p:cNvPr id="400" name="_s175147"/>
            <p:cNvCxnSpPr>
              <a:stCxn id="401" idx="0"/>
              <a:endCxn id="402" idx="2"/>
            </p:cNvCxnSpPr>
            <p:nvPr/>
          </p:nvCxnSpPr>
          <p:spPr>
            <a:xfrm flipV="1" rot="16200000">
              <a:off x="4401000" y="3858480"/>
              <a:ext cx="518400" cy="1758600"/>
            </a:xfrm>
            <a:prstGeom prst="bentConnector3">
              <a:avLst>
                <a:gd name="adj1" fmla="val 3328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03" name="_s175145"/>
            <p:cNvCxnSpPr>
              <a:stCxn id="404" idx="0"/>
              <a:endCxn id="402" idx="2"/>
            </p:cNvCxnSpPr>
            <p:nvPr/>
          </p:nvCxnSpPr>
          <p:spPr>
            <a:xfrm flipH="1" flipV="1" rot="5400000">
              <a:off x="2642760" y="3858120"/>
              <a:ext cx="518400" cy="1759320"/>
            </a:xfrm>
            <a:prstGeom prst="bentConnector3">
              <a:avLst>
                <a:gd name="adj1" fmla="val 3328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05" name="_s175142"/>
            <p:cNvCxnSpPr>
              <a:stCxn id="406" idx="0"/>
              <a:endCxn id="407" idx="2"/>
            </p:cNvCxnSpPr>
            <p:nvPr/>
          </p:nvCxnSpPr>
          <p:spPr>
            <a:xfrm flipV="1" rot="16200000">
              <a:off x="6159240" y="2304000"/>
              <a:ext cx="518400" cy="1759320"/>
            </a:xfrm>
            <a:prstGeom prst="bentConnector3">
              <a:avLst>
                <a:gd name="adj1" fmla="val 3328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08" name="_s175141"/>
            <p:cNvCxnSpPr>
              <a:stCxn id="402" idx="0"/>
              <a:endCxn id="407" idx="2"/>
            </p:cNvCxnSpPr>
            <p:nvPr/>
          </p:nvCxnSpPr>
          <p:spPr>
            <a:xfrm flipH="1" flipV="1" rot="5400000">
              <a:off x="4401000" y="2304360"/>
              <a:ext cx="518400" cy="1758600"/>
            </a:xfrm>
            <a:prstGeom prst="bentConnector3">
              <a:avLst>
                <a:gd name="adj1" fmla="val 3328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07" name="_s175137"/>
            <p:cNvSpPr/>
            <p:nvPr/>
          </p:nvSpPr>
          <p:spPr>
            <a:xfrm>
              <a:off x="4032360" y="1889280"/>
              <a:ext cx="3013920" cy="10357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Writing Chemical Formula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175138"/>
            <p:cNvSpPr/>
            <p:nvPr/>
          </p:nvSpPr>
          <p:spPr>
            <a:xfrm>
              <a:off x="2274480" y="3443040"/>
              <a:ext cx="3013920" cy="10357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oes not contain covalent prefix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_s175139"/>
            <p:cNvSpPr/>
            <p:nvPr/>
          </p:nvSpPr>
          <p:spPr>
            <a:xfrm>
              <a:off x="5790960" y="3443040"/>
              <a:ext cx="3013920" cy="10357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oes contain covalent prefixes = </a:t>
              </a:r>
              <a:r>
                <a:rPr b="0" lang="en-US" sz="2200" spc="-1" strike="noStrike">
                  <a:solidFill>
                    <a:srgbClr val="9933ff"/>
                  </a:solidFill>
                  <a:latin typeface="Arial"/>
                </a:rPr>
                <a:t>Binary Covalent compoun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_s175144"/>
            <p:cNvSpPr/>
            <p:nvPr/>
          </p:nvSpPr>
          <p:spPr>
            <a:xfrm>
              <a:off x="515880" y="4997160"/>
              <a:ext cx="3013920" cy="10357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Ends with “-ide” (except hydroxide &amp; cyanide) = </a:t>
              </a:r>
              <a:r>
                <a:rPr b="0" lang="en-US" sz="2200" spc="-1" strike="noStrike">
                  <a:solidFill>
                    <a:srgbClr val="9933ff"/>
                  </a:solidFill>
                  <a:latin typeface="Arial"/>
                </a:rPr>
                <a:t>Binary Ionic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_s175146"/>
            <p:cNvSpPr/>
            <p:nvPr/>
          </p:nvSpPr>
          <p:spPr>
            <a:xfrm>
              <a:off x="4032360" y="4997160"/>
              <a:ext cx="3013920" cy="10357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ll others = </a:t>
              </a:r>
              <a:r>
                <a:rPr b="0" lang="en-US" sz="2200" spc="-1" strike="noStrike">
                  <a:solidFill>
                    <a:srgbClr val="9933ff"/>
                  </a:solidFill>
                  <a:latin typeface="Arial"/>
                </a:rPr>
                <a:t>Polyatomic Ionic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xed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68280" y="2149560"/>
            <a:ext cx="2536920" cy="188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following chemical form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313440" y="1996920"/>
            <a:ext cx="3664440" cy="40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Magnes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opper (II) ni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Iron (III)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Nitrogen di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Sodium bi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1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6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1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6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1" dur="5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xed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232760" y="1996920"/>
            <a:ext cx="191124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Mg(OH)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Cu(NO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Fe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NO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NaHCO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8280" y="2149560"/>
            <a:ext cx="2536920" cy="188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following chemical form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313440" y="1996920"/>
            <a:ext cx="3664440" cy="40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Magnes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opper (II) ni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Iron (III)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Nitrogen di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Sodium bi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8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3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8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3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8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3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8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3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tals &amp; Non-Metal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9520" y="1461960"/>
            <a:ext cx="8415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onic Bonds are between metals &amp; non-met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343160" y="1973160"/>
          <a:ext cx="6323040" cy="4057560"/>
        </p:xfrm>
        <a:graphic>
          <a:graphicData uri="http://schemas.openxmlformats.org/drawingml/2006/table">
            <a:tbl>
              <a:tblPr/>
              <a:tblGrid>
                <a:gridCol w="333360"/>
                <a:gridCol w="360360"/>
                <a:gridCol w="325440"/>
                <a:gridCol w="318960"/>
                <a:gridCol w="339840"/>
                <a:gridCol w="363600"/>
                <a:gridCol w="363600"/>
                <a:gridCol w="331560"/>
                <a:gridCol w="351000"/>
                <a:gridCol w="425520"/>
                <a:gridCol w="403200"/>
                <a:gridCol w="403200"/>
                <a:gridCol w="374760"/>
                <a:gridCol w="333360"/>
                <a:gridCol w="325440"/>
                <a:gridCol w="318960"/>
                <a:gridCol w="317520"/>
                <a:gridCol w="3333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31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31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31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u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u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alloi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met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1600200"/>
            <a:ext cx="833292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33ff"/>
                </a:solidFill>
                <a:latin typeface="Arial"/>
              </a:rPr>
              <a:t>End in “-ide” (except “hydroxide and cyanide”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33ff"/>
                </a:solidFill>
                <a:latin typeface="Arial"/>
              </a:rPr>
              <a:t>Do NOT contain covalent prefi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write these formul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33ff"/>
                </a:solidFill>
                <a:latin typeface="Arial"/>
              </a:rPr>
              <a:t>Write the symbol &amp; charge of the first element (the metal, cati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33ff"/>
                </a:solidFill>
                <a:latin typeface="Arial"/>
              </a:rPr>
              <a:t>Write the symbol &amp; charge of the second element (the non-metal, ani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33ff"/>
                </a:solidFill>
                <a:latin typeface="Arial"/>
              </a:rPr>
              <a:t>Add more of the cations and/or anions to have a neutral compou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33ff"/>
                </a:solidFill>
                <a:latin typeface="Arial"/>
              </a:rPr>
              <a:t>Use subscripts to show how many of each type of ion is ther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&amp; Naming Binary Ion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0600" y="3086280"/>
            <a:ext cx="3368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dium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0600" y="3086280"/>
            <a:ext cx="3368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dium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14280" y="3049560"/>
            <a:ext cx="16002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887480" y="268740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94920" y="2232000"/>
            <a:ext cx="113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71720" y="3697200"/>
            <a:ext cx="164484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594240" y="366408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4160" y="4019400"/>
            <a:ext cx="104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55760" y="182880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Na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75120" y="4417920"/>
            <a:ext cx="18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Cl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2520" y="5386320"/>
            <a:ext cx="15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10600" y="3086280"/>
            <a:ext cx="3368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dium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14280" y="3049560"/>
            <a:ext cx="16002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887480" y="268740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94920" y="2232000"/>
            <a:ext cx="113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71720" y="3697200"/>
            <a:ext cx="164484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594240" y="366408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4160" y="4019400"/>
            <a:ext cx="104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55760" y="182880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Na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75120" y="4417920"/>
            <a:ext cx="18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Cl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82520" y="5386320"/>
            <a:ext cx="15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61000" y="2666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39040" y="335268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 + -1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4083120"/>
            <a:ext cx="374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pound is neutral…no subscripts are need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6T19:36:13Z</dcterms:created>
  <dc:creator>Luke H Deters</dc:creator>
  <dc:description/>
  <dc:language>en-US</dc:language>
  <cp:lastModifiedBy>detersk</cp:lastModifiedBy>
  <dcterms:modified xsi:type="dcterms:W3CDTF">2006-09-25T13:29:57Z</dcterms:modified>
  <cp:revision>14</cp:revision>
  <dc:subject/>
  <dc:title>Chemistry You Need to Know</dc:title>
</cp:coreProperties>
</file>